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DC15-ECF0-4133-9D61-D91F528F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AE84-A33B-4764-BE62-9980FDCB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11AA0A-D4AF-47BA-935B-5420726F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E8885E-8DD0-4403-B23D-6D81B552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880A8-95B0-434D-9BF9-9C3ACCBD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A832D0-A357-40EC-8B5E-307603EC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1B5A5A-7559-4B89-BC66-92D06D62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23F334-5A79-4AF1-9569-328CE33F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17F617-394C-416B-8A47-8AADF1A4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A4145C-7889-433E-B4A7-E772AB61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11B81-0874-454B-B1BB-FA08CC07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4F95-B5E2-4D2A-82CE-463B09B1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7846-A4FF-4F69-B8B3-35F3F85F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841-27F1-4F38-AC86-62CE93B8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A31E-72F7-4104-B056-025FED2D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591B13-D4A4-46B5-8CB9-F4FFB69B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2E70E0-AD52-479D-B7F2-AEFAA984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92F90C-CFD2-4EAA-90FC-F549D253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B301-8000-45AC-B215-F3DC347F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87B171-72FA-4AE7-92B5-6D0AAE43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54F05D-7C3A-4FBB-A222-F72D6882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29E7A1-EA65-4BDA-B38C-0C47DA5D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9A586C-E10D-4974-852E-0FE44C0E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96B4AA-BCA0-4CA3-A838-7CF8EAAB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10C70C-2570-4F3D-BE91-31813A98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6D5E1A-B009-40D7-AD4E-7F2E5B6F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2332A8-06C3-4F83-B82B-FE86EA56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11D632-5F46-456D-BCD2-78A5CAA1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745090-1095-4EB3-ADFD-B4DBDD13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42E-1AB7-45FB-841F-34B91F13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B54E83-2672-4C60-A38F-AC0F4780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5A98E9-8BBC-4C50-B1E5-759D8E52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BBB3E1-CB06-4228-8000-BF2737BA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DDBEC7-43CC-4D2A-B5CD-F73B006A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E1CACB-24BA-4188-A76E-F954C85D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232A1E-3AC8-45D9-9D8A-144CC4E3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29C47C-69A1-4B19-976D-C1FAAA9D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3FEB0F-81D5-4AF6-AC48-731CB142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BE2640-7737-4C68-BF98-283EA6A0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54AFA7-46D5-47BE-AD87-54F02404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8703-4176-41FE-854C-25C95A9B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7CDADE-90ED-406C-B242-8AFF93B7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71AEB9-B6E0-465B-A541-64A10AD7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8F6940-D3D0-45D3-AC9A-016820FB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5F5B8F-9756-4C4B-BFB8-FA00F348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92D95B-0632-4344-9AEE-675FC386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730B19-1388-45B9-AA2E-CBE1871D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F7DA79-51DF-4999-90D5-5A77F250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793127-2951-4A69-89CE-7AE80A35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5C6399-BDA9-4E7E-90B6-4DF2EA66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6D53E6-2511-494E-94AA-C4FA48F4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2EFD-DAD8-4791-93DA-D2BDEF00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7358B4-071A-4F7B-BF77-ACC99220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B049EC-2841-41EA-A624-47169572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F0C37C-19ED-4A77-A847-FF87E9DF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06668F-67A6-4439-8314-F2D99774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E7CD31-9EC6-4168-A219-522E96C4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78108B-9C4F-4B8A-A1F2-DD9C1C8B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FB3799-30F2-4248-A14B-A988BB77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C21D43-9919-4C6E-A08F-C80E6943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E42456-567D-44E6-963C-38E4A8B5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2E82DA-2AC6-46F6-8C39-2962B8B1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ADEE-F867-4667-BDAE-00C12766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6BD4FE-9133-432D-A84D-91143755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9E5A22-0EB0-4E3A-BD60-110F19F4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E15099-3EDD-4239-B47C-4509F604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0BF91C-ACD1-4BE3-B905-D64C11A4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876542-7CDA-4D9D-AE71-5802F236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632B4F-0F7B-4377-AD9A-CD870C9E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129BC8-7E0C-4B8F-8CBA-FFDA2E72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C15AF0-297F-4D8D-A501-CEB05204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5F06E5-64F9-4B1D-9E32-203B9249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27A52D-AF51-4A19-8338-796BDE84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5C97-48CD-49F0-BEFB-D858E408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6665A6-962F-4267-982D-6904DFDF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165E7F-DE3A-41B5-A24A-8368A3A9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2D0189-B6E2-4943-98AA-8EEC7A2C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15AC7D-DD9D-428E-96D6-585CA671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33EF32-990B-4DA0-817D-B730D181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C242B7-3293-469B-9F47-161F509A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8172F5-8A4B-4642-81B6-304F9787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61C4DC-558A-46B0-88F7-A6D647FF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D65707-EF5E-4F24-8A2A-D36E4AF3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D3A8C-1EEA-4E63-910E-DB3F0241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B623F-CB34-4FA9-8F58-1A760E98ACD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D6A71-CCFC-4509-9578-F570CFFD54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650AF-B15A-43F6-9B8C-723B9760602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FC95BD-5F79-45A5-9314-4CF06087DF1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1DEEC-F5A8-4292-95E6-CC3D3DD354A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2A393F-10E7-42FD-BB6B-3B8099819F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4FDD9-A9E9-4384-B22B-989A93D6627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2E124-90D6-4C93-A15B-B297E2B565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3C538-09A5-4EE7-976E-C9199DD8C9A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51B1F-BE08-4DCC-AE84-617F09834889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9FC30-F910-43B8-AC78-FCCE9E40FA8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4FBB6-16E5-482E-A0C6-DDE54D8B60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E15BD-FF11-4DFA-92F7-A3E5AD0DB51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22B09-8DEB-482F-97AF-D84472FCE026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78B64A-4C6E-4D1D-A588-6A8D11831CB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CB638-CD65-40EC-9BA9-AA8DBFCA33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3560" y="3776400"/>
            <a:ext cx="7196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Westridge Elementary School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93560" y="5257440"/>
            <a:ext cx="71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43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Project Summary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ny of our students do not see the need for learning to write well – with words carefully selected for audience and purpose. This project-based unit will provide students with a variety of options to demonstrate the understanding of the analytical traits AND the importance of focusing on purpose audience first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ssential Question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y writ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n writers influence their word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Unit Question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at factors influence people to writ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w can writers impact/influence/effect the reader?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ontent Question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y, when writing, must we address purpose and audience first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w can the analytical traits help me as a writer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w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9:45:15Z</dcterms:created>
  <dc:creator>Linda Vanderford</dc:creator>
  <dc:description/>
  <dc:language>en-US</dc:language>
  <cp:lastModifiedBy>Linda Vanderford</cp:lastModifiedBy>
  <dcterms:modified xsi:type="dcterms:W3CDTF">2010-08-03T19:59:10Z</dcterms:modified>
  <cp:revision>2</cp:revision>
  <dc:subject/>
  <dc:title>Westridge Elementary School</dc:title>
</cp:coreProperties>
</file>